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BF5E8-1A21-42B6-96F4-686A187E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4C2E2-A4FE-438B-909F-954EE8CCF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D850C-2C3C-4EE2-9DF9-1C7DCBDD1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05DF3-D013-4470-82A4-C3F8D031A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BAE1F-97AA-40CC-9975-E5E06C58A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9FFE9-A621-42A5-B29F-D5E086441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6F5A1-FCCB-4FDB-9BD9-5DBBEF850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F428F-FBAC-4224-8E0E-CB9A35451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0E4F8-B22B-41B6-A247-36A7EEEE0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D36B4-2419-48FF-BB17-9D3D90D13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CD2E3-341C-4411-A38D-08DFB13A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F3C9-F74C-4807-83FC-6DF5F0B7E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95987-42FC-4053-9E9E-19C3754FD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AB426-2AE6-455D-99D0-84C4AB524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2CC5A-4AD4-4BEE-B843-03A5CA10A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5E3CF-6EDD-4105-B983-2E4E5E55A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84682-4A71-4889-89F9-58CF58AD3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87E67D-8A49-4BF0-A974-E4CDBBB04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DE258-1E94-440A-8B3D-02AF87155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B2857-6EBF-4C31-B3F0-890D534FE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EC8D5-A6E1-4B40-831B-84ED00045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FBDB9-D749-4CB3-9564-A1EC5F637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BE788-94B2-434B-A127-765A04967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B6829-D196-405F-A0D5-0D14F63B5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5DA12-03D1-4DD8-9AA1-C194C019E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56166-ED3B-48D6-99C5-360F169C3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179FE-CD34-4C4A-9F7A-E3B5594F0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0868A-E9A8-454B-B320-EF91BC1AB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0E38AE-46EA-4FCE-A3CB-C3848CC6C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C8BCA-68E6-47E6-A083-02E28D4510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41341-F254-4FA7-8D8A-6A1E6830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AED2A-538B-4BE8-99E1-224B7B20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F3906-961D-4BC9-98E3-851AAAD6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D601-0EEB-4D63-8EDF-B4DF1367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2AA5-BC98-4D80-84EA-AAB2F80B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A8F14-B016-4CD3-84C2-B99CFDF73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0A11-9BB5-48E1-AA26-0A14B75387F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D7AE-D0E2-4074-9224-E7357CF4AF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19" name="Group 2"/>
          <p:cNvGrpSpPr/>
          <p:nvPr/>
        </p:nvGrpSpPr>
        <p:grpSpPr>
          <a:xfrm>
            <a:off x="0" y="0"/>
            <a:ext cx="9148320" cy="6851520"/>
            <a:chOff x="0" y="0"/>
            <a:chExt cx="9148320" cy="6851520"/>
          </a:xfrm>
        </p:grpSpPr>
        <p:sp>
          <p:nvSpPr>
            <p:cNvPr id="120"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3" name="Group 6"/>
            <p:cNvGrpSpPr/>
            <p:nvPr/>
          </p:nvGrpSpPr>
          <p:grpSpPr>
            <a:xfrm>
              <a:off x="455400" y="0"/>
              <a:ext cx="8092440" cy="6851520"/>
              <a:chOff x="455400" y="0"/>
              <a:chExt cx="8092440" cy="6851520"/>
            </a:xfrm>
          </p:grpSpPr>
          <p:sp>
            <p:nvSpPr>
              <p:cNvPr id="124"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5"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6"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7"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8"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6"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7"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8"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48" name="Group 31"/>
            <p:cNvGrpSpPr/>
            <p:nvPr/>
          </p:nvGrpSpPr>
          <p:grpSpPr>
            <a:xfrm>
              <a:off x="0" y="622440"/>
              <a:ext cx="9140760" cy="2493720"/>
              <a:chOff x="0" y="622440"/>
              <a:chExt cx="9140760" cy="2493720"/>
            </a:xfrm>
          </p:grpSpPr>
          <p:sp>
            <p:nvSpPr>
              <p:cNvPr id="149"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81CC-34F0-48A5-94C2-06FD27F2C88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ОСТАЛИ ВИДОВИ НЕУРАЛГИЈА У ОРОФАЦИЈАЛНО</a:t>
            </a:r>
            <a:r>
              <a:rPr b="1" lang="sr-CS" sz="4000" spc="-1" strike="noStrike">
                <a:solidFill>
                  <a:srgbClr val="ffffff"/>
                </a:solidFill>
                <a:latin typeface="Cambria"/>
              </a:rPr>
              <a:t>Ј  РЕГИЈИ</a:t>
            </a:r>
            <a:endParaRPr b="0" lang="en-US" sz="4000" spc="-1" strike="noStrike">
              <a:solidFill>
                <a:srgbClr val="000000"/>
              </a:solidFill>
              <a:latin typeface="Arial"/>
            </a:endParaRPr>
          </a:p>
        </p:txBody>
      </p:sp>
      <p:sp>
        <p:nvSpPr>
          <p:cNvPr id="198" name="Rectangle 5"/>
          <p:cNvSpPr/>
          <p:nvPr/>
        </p:nvSpPr>
        <p:spPr>
          <a:xfrm>
            <a:off x="1523880" y="525780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buClr>
                <a:srgbClr val="ffc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mbria"/>
              </a:rPr>
              <a:t>Доц др Слободан Лончаревић</a:t>
            </a:r>
            <a:endParaRPr b="0" lang="en-US" sz="1800" spc="-1" strike="noStrike">
              <a:solidFill>
                <a:srgbClr val="ffffff"/>
              </a:solidFill>
              <a:latin typeface="Verdana"/>
            </a:endParaRPr>
          </a:p>
          <a:p>
            <a:pPr algn="ctr">
              <a:lnSpc>
                <a:spcPct val="100000"/>
              </a:lnSpc>
              <a:spcBef>
                <a:spcPts val="451"/>
              </a:spcBef>
              <a:buClr>
                <a:srgbClr val="ffc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99" name="Picture 13" descr="memo grb copy"/>
          <p:cNvPicPr/>
          <p:nvPr/>
        </p:nvPicPr>
        <p:blipFill>
          <a:blip r:embed="rId2"/>
          <a:srcRect l="47095" t="0" r="41659" b="0"/>
          <a:stretch/>
        </p:blipFill>
        <p:spPr>
          <a:xfrm>
            <a:off x="762120" y="457200"/>
            <a:ext cx="653760" cy="1066680"/>
          </a:xfrm>
          <a:prstGeom prst="rect">
            <a:avLst/>
          </a:prstGeom>
          <a:ln w="0">
            <a:noFill/>
          </a:ln>
        </p:spPr>
      </p:pic>
      <p:sp>
        <p:nvSpPr>
          <p:cNvPr id="200" name="TextBox 8"/>
          <p:cNvSpPr/>
          <p:nvPr/>
        </p:nvSpPr>
        <p:spPr>
          <a:xfrm>
            <a:off x="1653840" y="609480"/>
            <a:ext cx="579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mbria"/>
              </a:rPr>
              <a:t>ФАКУЛТЕТ МЕДИЦИНСКИХ НАУКА</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mbria"/>
              </a:rPr>
              <a:t>УНИВЕРЗИТЕТ У КРАГУЈЕВЦУ</a:t>
            </a:r>
            <a:endParaRPr b="0" lang="en-US" sz="2400" spc="-1" strike="noStrike">
              <a:solidFill>
                <a:srgbClr val="ffffff"/>
              </a:solidFill>
              <a:latin typeface="Verdana"/>
            </a:endParaRPr>
          </a:p>
        </p:txBody>
      </p:sp>
      <p:sp>
        <p:nvSpPr>
          <p:cNvPr id="201" name="TextBox 9"/>
          <p:cNvSpPr/>
          <p:nvPr/>
        </p:nvSpPr>
        <p:spPr>
          <a:xfrm>
            <a:off x="1066680" y="3809880"/>
            <a:ext cx="708660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Cambria"/>
              </a:rPr>
              <a:t>Назив предмета:</a:t>
            </a:r>
            <a:r>
              <a:rPr b="1" lang="sr-Latn-CS" sz="1400" spc="-1" strike="noStrike">
                <a:solidFill>
                  <a:srgbClr val="ffffff"/>
                </a:solidFill>
                <a:latin typeface="Cambria"/>
              </a:rPr>
              <a:t>  </a:t>
            </a:r>
            <a:r>
              <a:rPr b="1" lang="sr-Latn-CS" sz="1400" spc="-1" strike="noStrike">
                <a:solidFill>
                  <a:srgbClr val="ffffff"/>
                </a:solidFill>
                <a:latin typeface="Cambria"/>
              </a:rPr>
              <a:t>	</a:t>
            </a:r>
            <a:r>
              <a:rPr b="1" lang="sr-CS" sz="1400" spc="-1" strike="noStrike">
                <a:solidFill>
                  <a:srgbClr val="ffffff"/>
                </a:solidFill>
                <a:latin typeface="Cambria"/>
              </a:rPr>
              <a:t>ОРОФАЦИЈАЛНИ БОЛ</a:t>
            </a:r>
            <a:endParaRPr b="0" lang="en-US" sz="14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Cambria"/>
              </a:rPr>
              <a:t>Предавање бр. 0</a:t>
            </a:r>
            <a:r>
              <a:rPr b="0" lang="sr-CS" sz="1400" spc="-1" strike="noStrike">
                <a:solidFill>
                  <a:srgbClr val="ffffff"/>
                </a:solidFill>
                <a:latin typeface="Cambria"/>
              </a:rPr>
              <a:t>1</a:t>
            </a:r>
            <a:r>
              <a:rPr b="0" lang="sr-Latn-CS" sz="1400" spc="-1" strike="noStrike">
                <a:solidFill>
                  <a:srgbClr val="ffffff"/>
                </a:solidFill>
                <a:latin typeface="Cambria"/>
              </a:rPr>
              <a:t>4</a:t>
            </a:r>
            <a:r>
              <a:rPr b="1" lang="sr-Latn-CS" sz="1400" spc="-1" strike="noStrike">
                <a:solidFill>
                  <a:srgbClr val="ffffff"/>
                </a:solidFill>
                <a:latin typeface="Cambria"/>
              </a:rPr>
              <a:t> </a:t>
            </a:r>
            <a:r>
              <a:rPr b="1" lang="sr-Latn-CS" sz="1400" spc="-1" strike="noStrike">
                <a:solidFill>
                  <a:srgbClr val="ffffff"/>
                </a:solidFill>
                <a:latin typeface="Cambria"/>
              </a:rPr>
              <a:t>	</a:t>
            </a:r>
            <a:r>
              <a:rPr b="1" lang="sr-CS" sz="1400" spc="-1" strike="noStrike">
                <a:solidFill>
                  <a:srgbClr val="ffffff"/>
                </a:solidFill>
                <a:latin typeface="Cambria"/>
              </a:rPr>
              <a:t>Час</a:t>
            </a:r>
            <a:r>
              <a:rPr b="1" lang="sr-Latn-CS" sz="1400" spc="-1" strike="noStrike">
                <a:solidFill>
                  <a:srgbClr val="ffffff"/>
                </a:solidFill>
                <a:latin typeface="Cambria"/>
              </a:rPr>
              <a:t>: </a:t>
            </a:r>
            <a:r>
              <a:rPr b="1" lang="sr-CS" sz="1400" spc="-1" strike="noStrike">
                <a:solidFill>
                  <a:srgbClr val="ffffff"/>
                </a:solidFill>
                <a:latin typeface="Cambria"/>
              </a:rPr>
              <a:t> 02</a:t>
            </a:r>
            <a:endParaRPr b="0" lang="en-US" sz="14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Cambria"/>
              </a:rPr>
              <a:t>Тематске јединице: </a:t>
            </a:r>
            <a:r>
              <a:rPr b="1" lang="sr-Latn-CS" sz="1400" spc="-1" strike="noStrike">
                <a:solidFill>
                  <a:srgbClr val="ffffff"/>
                </a:solidFill>
                <a:latin typeface="Cambria"/>
              </a:rPr>
              <a:t>	</a:t>
            </a:r>
            <a:endParaRPr b="0" lang="en-US" sz="14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300" spc="-1" strike="noStrike">
                <a:solidFill>
                  <a:srgbClr val="ffffff"/>
                </a:solidFill>
                <a:latin typeface="Cambria"/>
              </a:rPr>
              <a:t>	</a:t>
            </a:r>
            <a:endParaRPr b="0" lang="en-US" sz="300" spc="-1" strike="noStrike">
              <a:solidFill>
                <a:srgbClr val="ffffff"/>
              </a:solidFill>
              <a:latin typeface="Verdana"/>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Cambria"/>
              </a:rPr>
              <a:t>Неуралгије осталих кранијалних нерава</a:t>
            </a:r>
            <a:endParaRPr b="0" lang="en-US" sz="1400" spc="-1" strike="noStrike">
              <a:solidFill>
                <a:srgbClr val="ffffff"/>
              </a:solidFill>
              <a:latin typeface="Verdana"/>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Cambria"/>
              </a:rPr>
              <a:t>Секундарне неуралгије</a:t>
            </a:r>
            <a:endParaRPr b="0" lang="en-US" sz="1400" spc="-1" strike="noStrike">
              <a:solidFill>
                <a:srgbClr val="ffffff"/>
              </a:solidFill>
              <a:latin typeface="Verdana"/>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Cambria"/>
              </a:rPr>
              <a:t>Херпетичка и постхерпетичка неуралгија</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ОКЦИПИТАЛНА НЕУРАЛГИЈА</a:t>
            </a:r>
            <a:endParaRPr b="0" lang="en-US" sz="3200" spc="-1" strike="noStrike">
              <a:solidFill>
                <a:srgbClr val="ccecff"/>
              </a:solidFill>
              <a:latin typeface="Arial"/>
            </a:endParaRPr>
          </a:p>
        </p:txBody>
      </p:sp>
      <p:sp>
        <p:nvSpPr>
          <p:cNvPr id="219" name="PlaceHolder 2"/>
          <p:cNvSpPr>
            <a:spLocks noGrp="1"/>
          </p:cNvSpPr>
          <p:nvPr>
            <p:ph/>
          </p:nvPr>
        </p:nvSpPr>
        <p:spPr>
          <a:xfrm>
            <a:off x="304920" y="1142640"/>
            <a:ext cx="8534160" cy="533412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Окципиталну неуралгију карактеришу напади севајућих, јаких болова у потиљку и у пределу задње стране врата. Између напада јављају се безболни интервали или присуство сталног, тупог бола умерене јачине.</a:t>
            </a:r>
            <a:endParaRPr b="0" lang="en-US" sz="2800" spc="-1" strike="noStrike">
              <a:solidFill>
                <a:srgbClr val="ffffff"/>
              </a:solidFill>
              <a:latin typeface="Verdana"/>
            </a:endParaRPr>
          </a:p>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Болови су последица оштећења великог, малог или трећег окципиталног (потиљачног) нерва. Изнад захваћеног нерва постоје палпаторна (на притисак) или перкуторна (на куцкање) болна осетљивост.</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ecff"/>
                </a:solidFill>
                <a:latin typeface="Arial"/>
              </a:rPr>
              <a:t>ПОСТХЕРПЕТИЧНА НЕУРАЛГИЈА</a:t>
            </a:r>
            <a:endParaRPr b="0" lang="en-US" sz="32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стхерпетична неуралгија је бол у регији захваћеној херпес зостер инфекцијом. Веома је јак, жарећи и севајући, а често се појачава додиром захваћене кож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следица је оштећења периферних нерава насталим услед инфекциј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ирус херпес зостера изазива карактеристичне кожне промене, које оштећују нервне завршетке, те ови шаљу абнормалне импулсе ка мозгу где се формира осећај бола.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може трајати данима, месецима или доживотно.</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ПОСТХЕРПЕТИЧНА НЕУРАЛГИЈА</a:t>
            </a:r>
            <a:endParaRPr b="0" lang="en-US" sz="36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арије особе склоније су постхерпетичној неуралгији. Она се јавља код мање од 10% инфицираних у доби испод 60, а у око 40% случајева у доби преко 60 годин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као последица вирусне херпес зостер инфекције може бити акутни и хронични.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Акутни настаје у време или непосредно пре избијања кожних промена и траје краће од три месеца, односно повлачи се са излечењем инфекције.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Хронични бол траје дуже од три месеца, односно присутан је месецима или годинима наком повлачења кожних промена и он је, у ствари, постхерпетична неуралгија у ужем смислу реч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ccecff"/>
                </a:solidFill>
                <a:latin typeface="Arial"/>
              </a:rPr>
              <a:t>ПОСТХЕРПЕТИЧНА НЕУРАЛГИЈА</a:t>
            </a:r>
            <a:endParaRPr b="0" lang="en-US" sz="40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ВЕ КАРАКТЕРИСТИКЕ ПОСТХЕРПЕТИЧНЕ НЕУРАЛГИЈЕ</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ИЗРАЗИТА СУМАЦИЈА НАДРАЖАЈА “ТЕСТ ВРУЋЕ ВОДЕ”</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ДЛАГАЊЕ НАСТАНКА ИНТЕНЗИВНОГ БОЛА НАКОН СТИМУЛАЦИЈ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ccecff"/>
                </a:solidFill>
                <a:latin typeface="Arial"/>
              </a:rPr>
              <a:t>ПОСТХЕРПЕТИЧНА НЕУРАЛГИЈА</a:t>
            </a:r>
            <a:endParaRPr b="0" lang="en-US" sz="40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ТЕСТ ВРУЋЕ ВОДЕ”</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ВРУЋА ВОДА СЕ АПЛИКУЈЕ НА КОЖУ ПАЦИЈЕНТА</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ОН ОСЕЋА ТОПЛОТУ КОЈУ ТОЛЕРИШЕ АКО ЈЕ ТЕМПЕРАТУРА МАЊА ОД 50 СТЕПЕНИ</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КО СЕ ТЕСТ ИЗВЕДЕ НА КОЖИ ЗОНЕ НЕУРАЛГИЈЕ ЈАВЉАЈУ СЕ РАЗЛИЧИТЕ СЕНЗАЦИЈЕ</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ОСЕЋАЈ ТОПЛОТЕ, ПЕЧЕЊА И НА КРАЈУ НЕИЗДРЖЉИВИХ БОЛОВ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ccecff"/>
                </a:solidFill>
                <a:latin typeface="Arial"/>
              </a:rPr>
              <a:t>ПОСТХЕРПЕТИЧНА НЕУРАЛГИЈА</a:t>
            </a: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ДЛАГАЊЕ НАСТАНКА ИНТЕНЗИВНОГ БОЛА ПОСЛЕ СТИМУЛАЦИЈ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СЛЕ КРАТКОГ ОДЛАГАЊА И ПОЈАВЕ БРИДЕЊА И ТРЊЕЊА ПАЦИЈЕНТИ СУ ОСЕЋАЛИ ИНТЕНЗИВНЕ БОЛОВЕ КОЈИ ЗАХВАТАЈУ СВЕ ВЕЋЕ ЗОНЕ И НА КРАЈУ НЕСТАЈУ</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ПАД БОЛА ЈЕ КРАТКОТРАЈАН, ЕКСПЛОЗИВНОГ КАРАКТЕРА И НЕПРИЈАТНОГ КВАЛИТЕТ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АЗЛИКУЈЕ СЕ ОД ОСЕЋАЈА ИЗАЗВАНОГ СТИМУЛАЦИЈОМ НОРМАЛНЕ КОЖЕ ИСТИМ СТИМУЛУСО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ПОСТХЕРПЕТИЧНА НЕУРАЛГИЈА</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едикаментозно лечење у акутној фази подразумева примену антивиралних лекова у циљу лечења основног обољења (вирусне инфекције).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За контролу бола се користе аналгетици, НСАИЛ, антидепресиви, антиепилептици и кортикостероиди.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Локално се примењују лидокаин и стимулација ТЕНС уређајима, тј. електрична неуростимулациј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МИЈАЛГИЧКИ ЕНЦЕФАЛОМИЈЕЛИТИС</a:t>
            </a:r>
            <a:endParaRPr b="0" lang="en-US" sz="36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неки болесници с атипичним фацијалним болом имају поствирални синдром исцрпљености</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мало повишена телесна темп., главобоља, замагљен вид/диплопија, укочен врат, вертиго, инсомнија, мучнина, повраћање, лимфаденопатија, емоционална лабилност, учестало мокрење или ретенција урина и разни степени глувоће односно појачаног осећаја слух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у анамнези-респираторна или гастроинтестинална инфекциј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вероватно поремећени одговор на ЕБВ, </a:t>
            </a:r>
            <a:r>
              <a:rPr b="0" lang="en-US" sz="2400" spc="-1" strike="noStrike">
                <a:solidFill>
                  <a:srgbClr val="ffffff"/>
                </a:solidFill>
                <a:latin typeface="Verdana"/>
              </a:rPr>
              <a:t>к</a:t>
            </a:r>
            <a:r>
              <a:rPr b="0" lang="hr-HR" sz="2400" spc="-1" strike="noStrike">
                <a:solidFill>
                  <a:srgbClr val="ffffff"/>
                </a:solidFill>
                <a:latin typeface="Verdana"/>
              </a:rPr>
              <a:t>о</a:t>
            </a:r>
            <a:r>
              <a:rPr b="0" lang="en-US" sz="2400" spc="-1" strike="noStrike">
                <a:solidFill>
                  <a:srgbClr val="ffffff"/>
                </a:solidFill>
                <a:latin typeface="Verdana"/>
              </a:rPr>
              <a:t>кса</a:t>
            </a:r>
            <a:r>
              <a:rPr b="0" lang="hr-HR" sz="2400" spc="-1" strike="noStrike">
                <a:solidFill>
                  <a:srgbClr val="ffffff"/>
                </a:solidFill>
                <a:latin typeface="Verdana"/>
              </a:rPr>
              <a:t>ки Б и вирус субакутне неуропатиј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Verdana"/>
              </a:rPr>
              <a:t>нема адекватног лечењ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СЕКУНДАРНЕ НЕУРАЛГИЈЕ</a:t>
            </a:r>
            <a:endParaRPr b="0" lang="en-US" sz="4400" spc="-1" strike="noStrike">
              <a:solidFill>
                <a:srgbClr val="ccecff"/>
              </a:solidFill>
              <a:latin typeface="Arial"/>
            </a:endParaRPr>
          </a:p>
        </p:txBody>
      </p:sp>
      <p:sp>
        <p:nvSpPr>
          <p:cNvPr id="235" name="PlaceHolder 2"/>
          <p:cNvSpPr>
            <a:spLocks noGrp="1"/>
          </p:cNvSpPr>
          <p:nvPr>
            <p:ph/>
          </p:nvPr>
        </p:nvSpPr>
        <p:spPr>
          <a:xfrm>
            <a:off x="457200" y="2592360"/>
            <a:ext cx="8229600" cy="30513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ОЉЕЊА ПАРАНАЗАЛНИХ СИНУС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УМОРИ МОЗГ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УЛТИПЛА СКЛЕРОЗ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АТИПИЧНИ ФАЦИЈАЛНИ БОЛ</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ОБОЉЕЊА НОСА И СИНУСА</a:t>
            </a:r>
            <a:endParaRPr b="0" lang="en-US" sz="36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ви симптоми запаљења синуса (синузитиса) су отежано дисање кроз нос, ослабљен мирис и секреција (цурење) из носа.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У периоду од око седам дана од почетка инфекције горњих дисајних путева, развија се слика акутног запаљења синуса, праћена израженијим симптомима.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То су гнојна секреција из носа, повишена температура, а понекад и бол у лицу и главобољ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НЕУРАЛГИЈЕ</a:t>
            </a:r>
            <a:r>
              <a:rPr b="1" lang="en-US" sz="3600" spc="-1" strike="noStrike">
                <a:solidFill>
                  <a:srgbClr val="ccecff"/>
                </a:solidFill>
                <a:latin typeface="Arial"/>
              </a:rPr>
              <a:t> У ПРЕДЕЛУ ГЛАВЕ</a:t>
            </a:r>
            <a:r>
              <a:rPr b="1" lang="en-US" sz="4000" spc="-1" strike="noStrike">
                <a:solidFill>
                  <a:srgbClr val="ccecff"/>
                </a:solidFill>
                <a:latin typeface="Arial"/>
              </a:rPr>
              <a:t> </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уралгије носе имена по захваћеним нервима. Најчешће су у пределу главе и лица </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тригеминална неуралгија, </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глософарингеална неуралгија, </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геникулатна неуралгија, </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горња ларингеална неуралгија, </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зоцилијарна неуралгија, </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кципитална неуралгија</a:t>
            </a:r>
            <a:endParaRPr b="0" lang="en-US" sz="2400" spc="-1" strike="noStrike">
              <a:solidFill>
                <a:srgbClr val="ffffff"/>
              </a:solidFill>
              <a:latin typeface="Verdana"/>
            </a:endParaRPr>
          </a:p>
          <a:p>
            <a:pPr indent="32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себан вид неуралгије је постхерпетична неуралгија, која настаје као последица оштећења приферних нерава вирус херпес зостер инфекцијо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ОБОЉЕЊА НОСА И СИНУСА</a:t>
            </a:r>
            <a:endParaRPr b="0" lang="en-US" sz="3600" spc="-1" strike="noStrike">
              <a:solidFill>
                <a:srgbClr val="ccecff"/>
              </a:solidFill>
              <a:latin typeface="Arial"/>
            </a:endParaRPr>
          </a:p>
        </p:txBody>
      </p:sp>
      <p:sp>
        <p:nvSpPr>
          <p:cNvPr id="239" name="PlaceHolder 2"/>
          <p:cNvSpPr>
            <a:spLocks noGrp="1"/>
          </p:cNvSpPr>
          <p:nvPr>
            <p:ph/>
          </p:nvPr>
        </p:nvSpPr>
        <p:spPr>
          <a:xfrm>
            <a:off x="228600" y="1143000"/>
            <a:ext cx="8686800" cy="5562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у лицу узрокован синузитисом је једностран (на страни упале), јак је и удружен са повишеном температуром и запушеним носем. Уколико је упалом захваћен горњевилични (максиларни) синус, бол се може проширити и на зубе. Код запaљења клинистог (сфеноидалног) синуса, бол је локализован у темену. Погоршање овог бола настаје у ситуацијама које погодују блокади природних отвора синуса, онемогућавајући тако њихово адекватно пражњење. Такве ситуације су, примера ради, лет авионом и скијање.</a:t>
            </a:r>
            <a:endParaRPr b="0" lang="en-US" sz="2400" spc="-1" strike="noStrike">
              <a:solidFill>
                <a:srgbClr val="ffffff"/>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оред тога што се јавља код акутних, бол у лицу може бити последица и хроничних запаљења носа и синуса. Наиме, у фазама активације хроничне упале, долази до затварања синусних отвора и поремећаја њиховог пражњењ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320"/>
            <a:ext cx="8229600" cy="790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УМОРИ МОЗГА</a:t>
            </a:r>
            <a:endParaRPr b="0" lang="en-US" sz="4000" spc="-1" strike="noStrike">
              <a:solidFill>
                <a:srgbClr val="ccecff"/>
              </a:solidFill>
              <a:latin typeface="Arial"/>
            </a:endParaRPr>
          </a:p>
        </p:txBody>
      </p:sp>
      <p:sp>
        <p:nvSpPr>
          <p:cNvPr id="241" name="PlaceHolder 2"/>
          <p:cNvSpPr>
            <a:spLocks noGrp="1"/>
          </p:cNvSpPr>
          <p:nvPr>
            <p:ph/>
          </p:nvPr>
        </p:nvSpPr>
        <p:spPr>
          <a:xfrm>
            <a:off x="152280" y="914040"/>
            <a:ext cx="8686800" cy="5257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Наиме, тумор мозга може изазвати главобољу на један од три начин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a:t>
            </a:r>
            <a:r>
              <a:rPr b="0" lang="en-US" sz="2000" spc="-1" strike="noStrike">
                <a:solidFill>
                  <a:srgbClr val="ffffff"/>
                </a:solidFill>
                <a:latin typeface="Verdana"/>
              </a:rPr>
              <a:t>- Растезањем болно осетљивих унутарлобањских структур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a:t>
            </a:r>
            <a:r>
              <a:rPr b="0" lang="en-US" sz="2000" spc="-1" strike="noStrike">
                <a:solidFill>
                  <a:srgbClr val="ffffff"/>
                </a:solidFill>
                <a:latin typeface="Verdana"/>
              </a:rPr>
              <a:t>- Притиском на мождане (кранијалне) живц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a:t>
            </a:r>
            <a:r>
              <a:rPr b="0" lang="en-US" sz="2000" spc="-1" strike="noStrike">
                <a:solidFill>
                  <a:srgbClr val="ffffff"/>
                </a:solidFill>
                <a:latin typeface="Verdana"/>
              </a:rPr>
              <a:t>- Повећањем унутарлобањског (интракранијалног) притиск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Колико год то чудно звучало, сам мозак, тј. мождана маса, не боли – нема рецепторе за бол. Због тога се, чак, поједине хируршке интервенције на мозгу могу радити у локалној анестезији. Супротно томе, мождане опне и зидови можданих крвних судова, који су богато инервисани (проткани живцима), јесу болно осетљиве структуре унутар лобање. Када тумор својим растом растегне мождане опне и крвне судове, чиме активира нервне завршетке у овим структурама, настаје главобоља. Она је обично локализована, тј. осећа се на страни лобање где се и налази тумор.</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ccecff"/>
                </a:solidFill>
                <a:latin typeface="Arial"/>
              </a:rPr>
              <a:t>ТУМОРИ МОЗГА</a:t>
            </a:r>
            <a:endParaRPr b="0" lang="en-US" sz="4000" spc="-1" strike="noStrike">
              <a:solidFill>
                <a:srgbClr val="ccecff"/>
              </a:solidFill>
              <a:latin typeface="Arial"/>
            </a:endParaRPr>
          </a:p>
        </p:txBody>
      </p:sp>
      <p:sp>
        <p:nvSpPr>
          <p:cNvPr id="243" name="PlaceHolder 2"/>
          <p:cNvSpPr>
            <a:spLocks noGrp="1"/>
          </p:cNvSpPr>
          <p:nvPr>
            <p:ph/>
          </p:nvPr>
        </p:nvSpPr>
        <p:spPr>
          <a:xfrm>
            <a:off x="456840" y="1371240"/>
            <a:ext cx="8534520" cy="5257800"/>
          </a:xfrm>
          <a:prstGeom prst="rect">
            <a:avLst/>
          </a:prstGeom>
          <a:noFill/>
          <a:ln w="0">
            <a:noFill/>
          </a:ln>
        </p:spPr>
        <p:txBody>
          <a:bodyPr anchor="t">
            <a:normAutofit fontScale="97000"/>
          </a:bodyPr>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Главобоља може настати и као директна последица притиска тумора на мождане (кранијалне) нерве. </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итом се јавља бол у захваћеном подручју тих нерава, који је често праћен делимичним или потпуним губитком функције одређеног нерва.</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а пример, притиском на ИИИ мождани живац (окуломоторијус), долази до бола у пределу ока, праћеног поремећајем покретљвости очне јабучице и „дуплим сликам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ccecff"/>
                </a:solidFill>
                <a:latin typeface="Arial"/>
              </a:rPr>
              <a:t>ТУМОРИ МОЗГА</a:t>
            </a: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вега у око 8 одсто случајева главобоља код тумора мозга има типичне карактеристике на основу којих се може посумњати на тумор: јака је, захвата целу главу, најизраженија је у јутарњим часовима, појачава се при кашљу, кијању и напињању, праћена је мучнином и повраћањем, при чему после повраћања обично долази до привременог олакшања.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Једино за овакву главобољу се може речи да има типичне „туморске карактеристик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вакви болови указују на повећани унутарлобањски (интракранијални) притисак.</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МУЛТИПЛА СКЛЕРОЗА</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ултипла склероза (МС) је хронично обољење централног нервног система која се карактерише процесом демијелинизације </a:t>
            </a:r>
            <a:r>
              <a:rPr b="0" lang="en-US" sz="2400" spc="-1" strike="noStrike">
                <a:solidFill>
                  <a:srgbClr val="ffffff"/>
                </a:solidFill>
                <a:latin typeface="Verdana"/>
              </a:rPr>
              <a:t>кичмене мождине и мозга.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оцес демијенилизације подразумева гобитак беле супстанце, мијелина која је саставни део нервног тки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ест је врло варјабилна, испољава се неуролошким симптомима и знацима, и карактеришу је честа погоршања, која убрзо затим смењују нагла побољшања клиничке слик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станак мултипле склерозе резултира проблемима различитог степена, од благе укочености и отежаног ходања до ослепљења.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МУЛТИПЛА СКЛЕРОЗА</a:t>
            </a:r>
            <a:endParaRPr b="0" lang="en-US" sz="4400" spc="-1" strike="noStrike">
              <a:solidFill>
                <a:srgbClr val="ccecff"/>
              </a:solidFill>
              <a:latin typeface="Arial"/>
            </a:endParaRPr>
          </a:p>
        </p:txBody>
      </p:sp>
      <p:sp>
        <p:nvSpPr>
          <p:cNvPr id="249"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Симптоми мултипле склерозе испољавају се индивидуално.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Ипак постоји одређен број симптома који је врло карактеристичан за већину болесника, а то су: слабост, замор, укоченост, инкоординација, дрхтање, нејасан говор, депресија, спазам мишића, проблеми са равнотежом, видом, бубрезима и бешиком, сексуалном функцијом, памћењем и мисаоним током, или је могућа комплетна парализ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рло често се МС јавља у виду слабог појединачног симптома, као што су замућен вид или клецање ногу.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За многе људе са МС, симптоми се јављају и нестају на непредвидив начин. Док код једних даљи развој болести не утиче знатно на њихов начин живота, код других се јављају различити симптоми који могу угрозити њихове физичке и менталне способности, независност или живот.</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Ток болести је врло непредвидив и сатављен је од фаза смиривања (без присуства симптома) и фаза погоршања болест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МУЛТИПЛА СКЛЕРОЗА</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Код 1-2 % болесника јавља се тригеминална неуралгија нејасне етиологије</a:t>
            </a:r>
            <a:endParaRPr b="0" lang="en-US" sz="2800" spc="-1" strike="noStrike">
              <a:solidFill>
                <a:srgbClr val="ffffff"/>
              </a:solidFill>
              <a:latin typeface="Verdana"/>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Зона у којој се јавља бол је у виду убадања преосетљива на бол додир са губитком осећаја за топло</a:t>
            </a:r>
            <a:endParaRPr b="0" lang="en-US" sz="2800" spc="-1" strike="noStrike">
              <a:solidFill>
                <a:srgbClr val="ffffff"/>
              </a:solidFill>
              <a:latin typeface="Verdana"/>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оже доћи до губитка корнеалног рефлекса</a:t>
            </a:r>
            <a:endParaRPr b="0" lang="en-US" sz="2800" spc="-1" strike="noStrike">
              <a:solidFill>
                <a:srgbClr val="ffffff"/>
              </a:solidFill>
              <a:latin typeface="Verdana"/>
            </a:endParaRPr>
          </a:p>
          <a:p>
            <a:pPr marL="339480" indent="-33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Тригеминална неуралгија се јавља у каснијим фазама болести</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АТИПИЧНИ ФАЦИЈАЛНИ БОЛ</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ЗА РАЗЛИКУ ОД ТРИГЕМИНАЛНЕ НЕУРАЛГИЈЕ ГДЕ ЈЕ БОЛ СТРЕСОРНИ ФАКТОР КОЈИ МОЖЕ ДОВЕСТИ ДО ПРОМЕНЕ ЛИЧНОСТИ, КОД ПАЦИЈЕНАТА СА АТИПИЧНИМ ФАЦИЈАЛНИМ БОЛОМ ЈЕ ПРЕ ПОЈАВЕ БОЛА ПОСТОЈАО НЕКИ ЕМОЦИОНАЛНИ СТРЕС КАО УЗРОК ДЕПРЕСИЈЕ А ПОЈАВА БОЛА У ПРЕДЕЛУ ЛИЦА ЈЕ ПОСЛЕДИЦ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АТИПИЧНИ ФАЦИЈАЛНИ БОЛ</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АТИПИЧНИ ФАЦИЈАЛНИ БОЛ СЕ МАНИФЕСТУЈЕ КА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КОНСТАНТАН</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ИНТЕНЗИВАН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ЈАСНО ЛОКАЛИЗОВАН</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ДСУСТВО ПАТОЛОШКИХ ПРОМЕНА У ТКИВИМА</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АТИПИЧНИ ФАЦИЈАЛНИ БОЛ</a:t>
            </a: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ЧЕШЋИ КОД ЖЕНА У СРЕДЊИМ И ПОЗНИМ ГОДИНАМ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СКЛОНОСТ КА ДЕПРЕСИЈАМ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ТИПИЧНИ ФАЦИЈАЛНИ БОЛ ЈЕ ПОСЛЕДИЦА ПСИХОСОМАТСКИХ ПОРЕМЕЋАЈА КОЈИ НАСТАЈУ УСЛЕД:</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СПЕЦИФИЧНЕ РЕАКЦИЈЕ НА СТРЕС</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СИХОЛОШКИХ ПОРЕМЕЋАЈА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ИСПОЉАВАЊА КОНВЕРЗИВНОГ СИМПТОМ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51920"/>
            <a:ext cx="9144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ГЛОСОФАРИНГЕАЛНА НЕУРАЛГИЈА</a:t>
            </a:r>
            <a:endParaRPr b="0" lang="en-US" sz="3600" spc="-1" strike="noStrike">
              <a:solidFill>
                <a:srgbClr val="ccecff"/>
              </a:solidFill>
              <a:latin typeface="Arial"/>
            </a:endParaRPr>
          </a:p>
        </p:txBody>
      </p:sp>
      <p:sp>
        <p:nvSpPr>
          <p:cNvPr id="205" name="PlaceHolder 2"/>
          <p:cNvSpPr>
            <a:spLocks noGrp="1"/>
          </p:cNvSpPr>
          <p:nvPr>
            <p:ph/>
          </p:nvPr>
        </p:nvSpPr>
        <p:spPr>
          <a:xfrm>
            <a:off x="151920" y="1294920"/>
            <a:ext cx="8991720" cy="541044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Глософарингеална неуралгија је оштар, убодни, изутено јак бол трајања од неколико секунди до два минута у задњем делу језика, крајницима, ждрелу, испод угла доње вилице и уху. Између напада болова постоје потпуно безболни интервали. Напади се изазивају говором, гутањем, кашљањем или зевањем. Кожне триггер тачке су ретке (места на кожи код којих благи додир изазива напад бола).</a:t>
            </a:r>
            <a:endParaRPr b="0" lang="en-US" sz="2000" spc="-1" strike="noStrike">
              <a:solidFill>
                <a:srgbClr val="ffffff"/>
              </a:solidFill>
              <a:latin typeface="Verdana"/>
            </a:endParaRPr>
          </a:p>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Глософарингеална неуралгија је бол у инервационом подручију IX можданог живца (n.glossopharyngeus). Знатно је ређа од тригеминалне неуралгије, најјачег бола који човек може доживети. На 70 случајева тригеминалне долази један случај глософарингеалне неуралгије. Непознатог је узрока, премда се понекад, слично тригеминалној неуралгији, повезује са васкуларном компресијом, тј. притискањем артерије на нерв глософарингеус у задњој лобањској јами, на месту где живац настаје из можданог стабл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340920" y="649800"/>
            <a:ext cx="5955120" cy="375300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Неуралгије у пределу главе</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Глософарингеална неурал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Геникулатна неурал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Ларингеална неурал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азоцилијарна неурал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кципитална неурал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остхерпетична неуралгиј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Мијалгички енцефаломијелитис</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екундарне нералгије – обољења носа и синус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екундарне нералгије – тумори мозг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екундарне нералгије – мултипла склероза</a:t>
            </a:r>
            <a:endParaRPr b="0" lang="en-US" sz="20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екундарне нералгије – атипични фацијелни бол</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tretch/>
        </p:blipFill>
        <p:spPr>
          <a:xfrm>
            <a:off x="0" y="0"/>
            <a:ext cx="9144000" cy="6858000"/>
          </a:xfrm>
          <a:prstGeom prst="rect">
            <a:avLst/>
          </a:prstGeom>
          <a:ln w="0">
            <a:noFill/>
          </a:ln>
        </p:spPr>
      </p:pic>
      <p:pic>
        <p:nvPicPr>
          <p:cNvPr id="260" name="Picture 5" descr=""/>
          <p:cNvPicPr/>
          <p:nvPr/>
        </p:nvPicPr>
        <p:blipFill>
          <a:blip r:embed="rId2"/>
          <a:stretch/>
        </p:blipFill>
        <p:spPr>
          <a:xfrm>
            <a:off x="304920" y="5029200"/>
            <a:ext cx="1447560" cy="156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192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ГЛОСОФАРИНГЕАЛНА НЕУРАЛГИЈА</a:t>
            </a:r>
            <a:endParaRPr b="0" lang="en-US" sz="3600" spc="-1" strike="noStrike">
              <a:solidFill>
                <a:srgbClr val="ccecff"/>
              </a:solidFill>
              <a:latin typeface="Arial"/>
            </a:endParaRPr>
          </a:p>
        </p:txBody>
      </p:sp>
      <p:sp>
        <p:nvSpPr>
          <p:cNvPr id="207" name="PlaceHolder 2"/>
          <p:cNvSpPr>
            <a:spLocks noGrp="1"/>
          </p:cNvSpPr>
          <p:nvPr>
            <p:ph/>
          </p:nvPr>
        </p:nvSpPr>
        <p:spPr>
          <a:xfrm>
            <a:off x="228240" y="1143000"/>
            <a:ext cx="8458200" cy="5410080"/>
          </a:xfrm>
          <a:prstGeom prst="rect">
            <a:avLst/>
          </a:prstGeom>
          <a:noFill/>
          <a:ln w="0">
            <a:noFill/>
          </a:ln>
        </p:spPr>
        <p:txBody>
          <a:bodyPr anchor="t">
            <a:normAutofit fontScale="99000"/>
          </a:bodyPr>
          <a:p>
            <a:pPr marL="339480" indent="-3394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се не може контролисати лековима. Од помоћи је локална примена кокаинског спреја. Међутим, у упорним случајевима, хирургија бола је једино решење. Ради се микрохируршка задњелобањска експлорација (прегледање нерва под операционим микроскопом) и одговарајућа интервенција зависно од налаза.</a:t>
            </a:r>
            <a:endParaRPr b="0" lang="en-US" sz="2400" spc="-1" strike="noStrike">
              <a:solidFill>
                <a:srgbClr val="ffffff"/>
              </a:solidFill>
              <a:latin typeface="Verdana"/>
            </a:endParaRPr>
          </a:p>
          <a:p>
            <a:pPr marL="339480" indent="-3394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д постојања васкуларне компресије (притисак артерија на глософарингеални нерв), ради се микроваскуларна декомпресија (одмицање артерије од нерва), а уколико нема контакта са артеријом, ради се пресецање нерва глософарингеуса на месту његовог настанка из можданог стабл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ГЕНИКУЛАТНА НЕУРАЛГИЈА </a:t>
            </a:r>
            <a:endParaRPr b="0" lang="en-US" sz="32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д геникулатном или неуралгијом нерва интермедијуса, подразумевају се пароксизмални (они који се јављају у нападима) или повремени јаки болови дубоко у ух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За разлику од других неуралгија на лицу, геникулатна не мора имати јасан карактер напад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Бол се може изазвати благим додиром у спољашњем ушном каналу. Ради се о ретком обољењу, незахвалном за лечењ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ГЕНИКУЛАТНА НЕУРАЛГИЈА</a:t>
            </a:r>
            <a:endParaRPr b="0" lang="en-US" sz="32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обичајени лекови против болова нису од помоћи, а царбамазепин има много слабији ефекат него код тригеминалне неуралгиј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 упорним случајевима долази у обзир операција – микрохируршки приступ у задњу лобањску јаму и пресецање нерва интермедијуса (аблативна операција из домена хирургије бол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 случајевима присуства јасне васкуларне компресије живца (када артерија притиска живац), као могећег узрока неуралгије, ефекат се може постићи и микроваскуларном декомпресијом (одмицањем, раздвајањем артерије од живца), што спада у анатомске операције из домена хирургије бол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ЛАРИНГЕАЛНА НЕУРАЛГИЈА</a:t>
            </a:r>
            <a:endParaRPr b="0" lang="en-US" sz="36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Горња ларингеална неуралгија се манифестује јаким болом у гркљану, налик “струјном удару”, који се јавља у нападима трајанаја од неколико свега секунди до неколико минута, са потпуно безболним интервалима између напада.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ол је локализован у пределу гркљанске хрскавице (Адамава јабучица) и преноси се у нос, према углу доње вилице, а понекад и на ухо. У неким случајевима бол зрачи (преноси се) према горњем делу грудног коша. Напад се може изазвати додиром у пределу гркљана, говором, зевањем и кашљање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ЛАРИНГЕАЛНА НЕУРАЛГИЈА</a:t>
            </a:r>
            <a:endParaRPr b="0" lang="en-US" sz="36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ва неуралгија настаје у инервационом подручију горњег ларингеалног (гркљанског) нерва. Међутим, постоје мишљења да је најчешће последица васкуларне или друге компресије (притискања од стране артерије и сл.) на n. vagus у задњој лобањској јами, на месту његовог настанка из можданог стабла (горњи ларингеални нерв је грана n.vagus). Зато се зове и вагална неуралгија.</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Горња ларингеална, или вагална неуралгија, може бити удружена са глософарингеалном неуралгијом. Дијагноза се поставља на основу карактеристичне клиничке слик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НАЗОЦИЛИЈАРНА НЕУРАЛГИЈА</a:t>
            </a:r>
            <a:endParaRPr b="0" lang="en-US" sz="32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азоцилијарна неуалгија је бол у једној страни носа (једна ноздрва) који зрачи, тј. преноси се према челу и јавља се у нападима трајања од неколико секунди до неколико минута. Напад се може изазвати додиром спољње стране захваћене носнице.</a:t>
            </a:r>
            <a:endParaRPr b="0" lang="en-US" sz="2800" spc="-1" strike="noStrike">
              <a:solidFill>
                <a:srgbClr val="ffffff"/>
              </a:solidFill>
              <a:latin typeface="Verdan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Дијагноза се поставља на основу клиничке слике и чињенице да бол престаје убризгавањем кокаинског спреја у захваћену ноздрву. Бол се може лечити блокадом или пресецањем захваћеног назоцилијарног нерв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ris</dc:creator>
  <dc:description/>
  <dc:language>en-US</dc:language>
  <cp:lastModifiedBy>Miki</cp:lastModifiedBy>
  <dcterms:modified xsi:type="dcterms:W3CDTF">2015-06-15T08:24:21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